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E6939-86A0-4F5C-AF6D-56E81BD18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9A5EB-D0C2-4379-92C3-B7F0B623C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1B6FA-CF17-43A8-ADCB-91A9998A5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2E8C9-E423-44F4-AC23-9EC2A40BE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38C72-65B2-49A5-946D-42EDDB24F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8DD47-49E5-487A-AE46-6A3C0D0F6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C92FE-AF42-4253-9A54-FFA626EB9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1D49D-B115-4CB4-BD70-F4A6DA70D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8058F-9BB4-4D11-B756-D954D76CB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77FF5-4C44-4357-A6AF-330D8F341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6ECE6-4B09-444C-9319-A1301227E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051A1-2D09-4D5A-9538-1D1ECD1CB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B5B78-6841-4608-AA82-EE7180652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4EA3B-9712-435D-9336-6AB94F597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2F48A-D161-456B-88F1-07E2D7DF7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FE86D-0919-4B84-B080-35F20FF68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03EF1-75B8-4515-A470-53E978FD1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27EBC-11B8-4929-A392-A3A6BF2D8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0E2F5-8117-430A-870A-05FBAFAE9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3F580-BC4D-4FAD-A340-2FBC90DEC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5C14B-7334-44BD-AF1F-77ED65DFA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FC8F6-56E5-47DB-99C0-03FFCF74A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6B502-66B5-4227-9ADC-65876F5C6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F365F-84A9-48DD-9D0E-ABA889E96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497A8-5ADA-4DE4-9457-30161EFDF2B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CB003-73D9-4020-A9DF-29757682BD4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0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iz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7593"/>
          <a:stretch/>
        </p:blipFill>
        <p:spPr>
          <a:xfrm>
            <a:off x="3456000" y="0"/>
            <a:ext cx="568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v 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vent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6322"/>
          <a:stretch/>
        </p:blipFill>
        <p:spPr>
          <a:xfrm>
            <a:off x="914400" y="1447920"/>
            <a:ext cx="7315200" cy="53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and Interna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- datagrams or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station and network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tion requests logical connection (virtual circui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packets identified as belonging to that connection &amp; sequentially numb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delivers packets in sequ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virtual circuit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X.2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virtual circuit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handled independent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datagram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datagram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dicated route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handles each packet separ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packets for the same external virtual circuit may take different internal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buffers at destination node for re-ord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treated independently by both network and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does not see any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sends one packe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ts up logical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04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11118"/>
          <a:stretch/>
        </p:blipFill>
        <p:spPr>
          <a:xfrm>
            <a:off x="3292560" y="0"/>
            <a:ext cx="5851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828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6920"/>
          <a:stretch/>
        </p:blipFill>
        <p:spPr>
          <a:xfrm>
            <a:off x="3576600" y="0"/>
            <a:ext cx="5567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, crucial aspect of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rec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i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ma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Criter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selection of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st c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Stallings appendix 10A for 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switching designed for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s dedicated to a particular c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ch of the time a data connection is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th ends must operate at the same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sting of Rou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25468"/>
          <a:stretch/>
        </p:blipFill>
        <p:spPr>
          <a:xfrm>
            <a:off x="914400" y="1447920"/>
            <a:ext cx="7086600" cy="52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cision Time and Pl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or virtual circuit ba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de by each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Information Source and Update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usually based on knowledge of network (not alway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use local 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ll nodes on a potential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 info from 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is network info held by nodes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- never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aptive - regular upd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Strate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permanent route for each source to destination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routes using a least cost algorithm (appendix 10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fixed, at least until a change in network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b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7485"/>
          <a:stretch/>
        </p:blipFill>
        <p:spPr>
          <a:xfrm>
            <a:off x="3965400" y="0"/>
            <a:ext cx="51786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ent by node to every neighb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ming packets retransmitted on every link except incoming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tually a number of copies will arrive at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is uniquely numbered so duplicates can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can remember packets already forwarded to keep network load in bou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include a hop count in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8162"/>
          <a:stretch/>
        </p:blipFill>
        <p:spPr>
          <a:xfrm>
            <a:off x="4341960" y="0"/>
            <a:ext cx="4802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perties of 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possible routes are t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packet will have taken minimum hop count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used to set up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nodes ar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ful to distribute information (e.g. rout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ndom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selects one outgoing path for retransmission of incoming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on can be random or 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elect outgoing path based on probability calc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is typically not least cost nor 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in smal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1000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messages split into series of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acket contains a portion of user data plus some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(addressing)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received, stored briefly (buffered) and past on to the next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ore and 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almost all packet switching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change as conditions on the network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l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info about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isions more co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eoff between quality of network info an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cting too quickly can cause oscil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o slowly to be releva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 - 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id congestion control (See chapter 1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realize theoretical benef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ass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information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(isol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 to outgoing link with shortest que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include bias for each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rely used - do not make use of easily available inf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olated 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19396"/>
          <a:stretch/>
        </p:blipFill>
        <p:spPr>
          <a:xfrm>
            <a:off x="609480" y="1487520"/>
            <a:ext cx="784872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6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adap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d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llman-Ford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exchanges delay vector with neighb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 routing table based on incom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n't consider line speed, just queu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length not a good measurement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ds slowly to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measured di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ijkstra’s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under light and medium lo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little correlation between reported delays and those experienc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st calculations chang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average delay over last 10 seco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ize based on current value and previous res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host and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most universal on packet switched networks and packet switching i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three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attached station and link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erminal equipment DTE (user equip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ircuit terminating equipment DCE (nod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physical layer specification X.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transfer across physical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of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Lin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tocol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36479"/>
          <a:stretch/>
        </p:blipFill>
        <p:spPr>
          <a:xfrm>
            <a:off x="457200" y="2147760"/>
            <a:ext cx="807732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s (virtual circuits) between subscri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Use of Virtual Circu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6433"/>
          <a:stretch/>
        </p:blipFill>
        <p:spPr>
          <a:xfrm>
            <a:off x="990720" y="1371600"/>
            <a:ext cx="6933960" cy="54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ally establis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network assigned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al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350"/>
          <a:stretch/>
        </p:blipFill>
        <p:spPr>
          <a:xfrm>
            <a:off x="3556080" y="0"/>
            <a:ext cx="5587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6941"/>
          <a:stretch/>
        </p:blipFill>
        <p:spPr>
          <a:xfrm>
            <a:off x="457200" y="1371600"/>
            <a:ext cx="815328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can establish 4095 simultaneous virtual circuits with other DTEs over a single DTC-DCE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ontain 12 bit virtual circui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Numbe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5415"/>
          <a:stretch/>
        </p:blipFill>
        <p:spPr>
          <a:xfrm>
            <a:off x="1676520" y="1371600"/>
            <a:ext cx="579096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and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S (Chapter 7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equ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te packet sequ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longer blocks of data across network with smaller packet size without loss of block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 bit 1, D bit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or more A followed by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et and Restar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initialize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s set to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in transit l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higher level protocol to recover lost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ggered by loss of packet, sequence number error, congestion, loss of network internal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quivalent to a clear request on all virtual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mporary loss of network a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effici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node to node link can be shared by many packets ov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queued and transmitted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con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o the local node at its ow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buffer data if required to equalize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accepted even when network is bus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may slow d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 Chapter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.25 info from 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 from C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Techniq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breaks long message into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sent one at a time to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handled in two w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treated independ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an take any practical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go mi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receiver to re-order packets and recover from miss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planned route established before any packets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request and call accept packets establish connection (handsh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contains a virtual circuit identifier instead of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outing decisions required for each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ear request to drop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dedicat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s v 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can provide sequencing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are forwarded more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routing decisions to m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ss of a node looses all circuits through that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all setup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if few pack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ing can be used to avoid congested parts of the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1T17:14:53Z</dcterms:created>
  <dc:creator>Adrian J Pullin</dc:creator>
  <dc:description/>
  <dc:language>en-US</dc:language>
  <cp:lastModifiedBy>Adrian J Pullin</cp:lastModifiedBy>
  <dcterms:modified xsi:type="dcterms:W3CDTF">1999-10-28T17:58:32Z</dcterms:modified>
  <cp:revision>37</cp:revision>
  <dc:subject/>
  <dc:title>William Stallings Data and Computer Communications</dc:title>
</cp:coreProperties>
</file>